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E12-C053-4780-9BC2-EF262069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D31-E0C1-4EF7-8F4F-7E37616E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448-BEC1-4DF8-A320-8CE3DDB2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A79F-25B7-4ECC-B337-9382E76A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2CDB-AAC6-4264-8D31-6029ED3C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208B-9021-4FC5-8863-EBF26237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6E42-13AF-46BE-B8F2-3F8F95F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DEAD-9353-4692-84A9-B375598F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295B-F4B3-4176-9F22-7DD5F6BC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D632-F7F4-4548-8F90-4B5E43B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BB01-C42E-4029-98F1-5F2C5E41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F39-BE9F-4AA9-BB83-8F3D92D8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41AA-8173-404A-A271-F93004E6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DF2E-A2C9-42C8-84BE-3F41D9C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571D-FEBB-47AA-9405-09014BE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2CC6-62C0-488C-AC71-9B4D4160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7134-3D2B-4034-A4E5-DBC72F55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EE7-B13C-4992-80F2-8846C485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1CE-6D33-459A-A647-C6BA6242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FDF-C387-4F3E-B4E7-0A6670E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46CF-AC50-4167-A616-6538DC8C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0CE-3293-4A5D-AD99-973B2D8A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7685-1CB0-453E-BC41-EDE0A515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DAED-FC83-4E5F-A8C4-F537D72F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FD7E-F2A1-4F63-A3D4-2BBDA3CD9F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1280-CCF9-4B93-BF5A-CDC3791C79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SINGLE ROW FUNCTION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ARACTER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560" y="1828800"/>
            <a:ext cx="883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RIM(trailing 'ab' from 'ababbab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ababba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2560" y="1828800"/>
            <a:ext cx="883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RIM('ab' from '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ba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OWER, UPPER, INITC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(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(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st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OWER, UPPER, INITC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PPER('aBcD'), LOWER('aBcD'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'aBcD') 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PPER('aBcD'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WER('aBcD'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'aBcD')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PPER('aBcD')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OWER('aBcD'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CAP('aBcD')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UPPER('aBcD'), LOWER('aBcD'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ITCAP('aBcD'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ENGT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LENGTH('abc') 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ST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R(string,start[,count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f no count is specified, the function return the substring starting at position start and going to the end of the str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UBSTR('a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i',5,2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SUBSTR('a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gh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,5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f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ST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STR(string,substring[,start[,n]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for the n-th occurrence of the substring in the string, starting with the start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tart position is not mention the function will look for the substring starting at position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 is not mention the function will look for the first occurrence of the substring in th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NSTR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202248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abcxabcxabcxyz','abc'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abcxabcxy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,'abc',6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yz','abc',1,2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INSTR('xyz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c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xy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','abc',5,2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UBSTR, INSTR Togeth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Auth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STR(Author, INSTR(Author,',')+2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' ' ||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UBSTR(Author,1, INSTR(Author,',')-1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Mag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minesc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h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ha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mines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rean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rean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sb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o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o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sb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oncaten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r1 || str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CAT(str1,str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ncatenate more that 2 str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1 || str2 || str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ONCAT(str1,CONCAT(str2,str3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PAD, LPA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PAD(string,length,['set'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PAD(string,length,['set']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'set' does not appear the string will be padded with 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PAD, LPAD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RPAD('ab',10,'&lt;&gt;'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&gt; ab&lt;&gt;&lt;&gt;&lt;&gt;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LPAD('xyz',15,'*') 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***********x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PAD, LPAD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LPAD(RPAD('abc',8,'='),13,'=') 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&gt; =====abc====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LPAD(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PAD('abc',8,'=')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,13,'=')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&gt; =====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bc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LPAD(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PAD('abc',8,'=')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,13,'=')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FROM 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=&gt; </a:t>
            </a:r>
            <a:r>
              <a:rPr b="1" lang="en-US" sz="3200" spc="-1" strike="noStrike">
                <a:solidFill>
                  <a:srgbClr val="0000cc"/>
                </a:solidFill>
                <a:latin typeface="Courier New"/>
              </a:rPr>
              <a:t>=====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abc====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TRIM, RTRI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m off unwanted characters from the left (LTRIM), right (RTRIM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TRIM(string,[’set’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TRIM(string,[’set’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is the collection of characters you want to trim off. If no set is specified, the function trim off sp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TRIM, R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LTRIM(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**abc**==**',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==**abc**==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LECT RTRIM('**==**abc**==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'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ROM 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**==**abc**=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im ( [leading|trailing|both  ['set'] FROM] s1)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m off set from the beginning, the end or both of the string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option is Impl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set is specified, the function trim off spa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RIM Exampl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560" y="1828800"/>
            <a:ext cx="88390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TRIM(leading 'ab' from '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babab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bababab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8:30:48Z</dcterms:created>
  <dc:creator>carmen</dc:creator>
  <dc:description>Am adaugat un ultim slide cu intrebari  </dc:description>
  <dc:language>en-US</dc:language>
  <cp:lastModifiedBy>kome</cp:lastModifiedBy>
  <dcterms:modified xsi:type="dcterms:W3CDTF">2007-09-18T17:42:02Z</dcterms:modified>
  <cp:revision>34</cp:revision>
  <dc:subject/>
  <dc:title>Char Function</dc:title>
</cp:coreProperties>
</file>